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26B-71E7-4A3C-B7A5-A8353F05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312-AFFD-40C6-8ED8-ADFB8022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C51-AF2D-4192-AE6F-1B46FEAA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630-2D00-4771-BA5C-3A11149F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A842-867A-4462-AC49-8AAA271A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0362-B740-4015-AFB1-4E3CB81B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A203-DE24-4571-84B8-A3138F44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1719-86C7-452C-81AE-7860FDFD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681E-C03E-4165-8B3E-FE492BB0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81FE-E24C-4ADA-B72A-8A441E91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94BF-C533-41E2-BE22-10FE09A3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958-05EF-4CF4-BCA9-DCF6E0BC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E04A-36F2-40CE-8F18-B3D041D5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D2D7-0EAD-42A5-AF52-089F29B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A22D-C4D7-46B7-B17D-348AF5A6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EB74-96D9-48E5-A37C-639F386E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811F-8BFE-4EF6-888B-4ED5ADF2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25743-DE88-42AA-82C1-0D9AF815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7A0A4-477D-4889-A027-CEDDE4BA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AA359-A6AB-4294-A988-8E08470A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2691E-48EC-4BF6-B92F-7E3FA13A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B2459-31F4-4419-A16F-CE2A0188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3B4-ADC6-4572-A58F-1B92ED94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0819C-F806-4D96-910C-6F11184E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988D8-5643-4916-BDF0-D620C826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0B2EC-4357-4826-86A0-B65E01EA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A14DE-9014-4823-BA1E-C4B1286F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5B6B1-8059-4047-A0BA-B02AA038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06748-A60B-4D6D-8174-FB2C4DB6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8690D-1967-4EC7-8150-2E730A18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953DE-79B9-4F40-A117-E675CEA9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992E-4C30-4A51-AC12-7D23FF62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DFA5-019A-4A81-ABCF-66F84874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99F-0A02-464D-A7F2-C7B21218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5374B-3D98-49CE-B5A0-BC52F849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CADE-B4B6-4ECC-851E-ED2C259E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2692E-37DF-4284-B6AE-A19EFA7B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3FB82-E615-4DF0-BC6D-82F7AC16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A399A-1E4B-4915-8D1E-2FCE3F9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13BED-31A6-4557-A576-AB362B71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3C489-DAAC-442E-9DB5-5E7DEFF3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D0DAE-F6D6-4D04-A9D9-B4860806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A7C3-8744-4E05-A49E-C45EA8F5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B98FD-2B36-4102-8481-37AC60DC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7A1-8743-4804-855C-4D3F9F3F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C3BE3-9166-4638-ABB6-7D7A2ACA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403CE-FC0C-44C0-AA1C-BEA368C9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8D08B-F091-4C7A-818C-AB964FDB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22718-BD8F-4439-ACC1-A3F03265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0827B-30AD-4D6F-9B4B-A63F0A9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E490A-68DC-4831-9536-8D96E97D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812A1-52C1-4D9C-87A0-27A6F90D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C7892-4B31-4AF5-943D-E0E1D7F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3B623-29C5-42FD-BBA9-25C80B7D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01A0B-F64B-4745-955E-961726C6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CA2-B5A9-4435-B89D-C3976319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84B81-B451-4332-ABD2-7C29B039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8C1C8-ABC5-4F5E-9400-C13E5A2D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9C797-6157-4A0E-80D3-6E056021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E8E3F-7261-4D20-8884-454E7F60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4A28C-899B-4B55-BADC-8992C213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4E256-610F-4AB8-B1AA-4400C217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AB2D8-A321-48B5-AF83-FB735528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98616-1747-4760-BDCB-D248395D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FA923-71C1-4F7E-B8F7-3F37A7C9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87736-906F-48DD-BDF7-E4791455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028-2F69-4DEC-9337-33B7C5E1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946AE-81E4-431C-B9DE-FA3F886A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FEC3F-BB68-4A21-B8CB-3670EE78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78A39-2AEC-4FBA-BA0C-00F4E570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3FA22-3DB0-4ED8-AB3C-CDA8FBA5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5587F-4F8B-46EC-936C-31D806A9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817E5-9C88-4A61-9FF4-928AD045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86F3A-1789-491D-ABE7-00E728EB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B0CEA-C79F-4129-9029-123ADCF0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C819C-6B7D-4D77-A920-5C541AEE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1F77FE-B405-4F66-96DB-61AA047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A6A-941D-434D-AE00-D9DD12B9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1DF35-350F-4C71-9107-A22717A3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864F2-76FF-44C0-9F51-E70CCB59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70252-2294-4267-AC0D-6EC5A571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67C5D1-7DDC-4000-9E5F-CF6EE7C8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E3073-CECE-4AD9-92B7-CA363B5F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8F6-964A-4A3B-BA76-80C91CC9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7AEF3-AFFB-469B-92B7-2007B764DDC4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CDB7C-B64A-4103-B2B1-6AF16D092C5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0189A-4C79-4D50-8777-3DC1C5E140C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3A564-D7C8-4F19-B4F9-6D663BBFB72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234C5-4DA6-432A-9BD8-7EB2576C43F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BA928-C119-4DF2-938A-EE3F1B46E3A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1E32F-D890-4BA0-8A9F-2DB381995126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5D0F3-3719-414E-871E-AFC6411CA7B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6CD97-9D37-4992-B0CE-DEA0C4B7D477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D6C44-0644-4FC7-B7CC-4F7C0ADC3CE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76C24-0B68-4668-8B9D-BCF633C17F8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B6E66-7415-46F9-81AD-4706799B9AC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5DAF1-F0C2-410B-B5E7-B81F8DB734E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3CCF4-FDED-4104-A47D-687F6441599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ail.waldwick.k12.nj.us/owa/redir.aspx?C=fc04f7014d4d4d809bb0259371364f16&amp;URL=http://library.waldwick.k12.nj.us" TargetMode="External"/><Relationship Id="rId2" Type="http://schemas.openxmlformats.org/officeDocument/2006/relationships/hyperlink" Target="http://www.bccls.org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409428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6</a:t>
            </a:r>
            <a:r>
              <a:rPr b="1" lang="en-US" sz="48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 GRADE </a:t>
            </a:r>
            <a:br>
              <a:rPr sz="4800"/>
            </a:b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SCIENCE FAIR: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575f6d"/>
                </a:solidFill>
                <a:latin typeface="Century Schoolbook"/>
              </a:rPr>
              <a:t>RESEARCHING WITH </a:t>
            </a:r>
            <a:br>
              <a:rPr sz="4800"/>
            </a:br>
            <a:r>
              <a:rPr b="1" lang="en-US" sz="4800" spc="-1" strike="noStrike" u="sng">
                <a:solidFill>
                  <a:srgbClr val="575f6d"/>
                </a:solidFill>
                <a:uFillTx/>
                <a:latin typeface="Century Schoolbook"/>
              </a:rPr>
              <a:t>NON-FICTION BOOKS</a:t>
            </a:r>
            <a:br>
              <a:rPr sz="25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BRAINSTORM KEYWORD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PIC EXAMPLE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Tornado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KEYWORD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rnad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tural Disast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rnado Alle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SEARCHING THE LIBRARY CATALOG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aldwick School Libra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library.waldwick.k12.nj.u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aldwick Public Libra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bccls.org/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ITATION INFORMATION</a:t>
            </a: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ll-in the following information about th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n-fiction book you selec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lace of Public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ublish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Year of Publica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edium of Publication:  PRI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NOTE TAKING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tes are not full senten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tes are fact fragment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raphrase your fact fragments during the final writing proces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E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dentify a non-fiction book sourc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ll-in the book’s citation inform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reate a citation in MLA forma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ake notes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Search for research books!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3:56:53Z</dcterms:created>
  <dc:creator>Paul Hummel</dc:creator>
  <dc:description/>
  <dc:language>en-US</dc:language>
  <cp:lastModifiedBy>Paul Hummel</cp:lastModifiedBy>
  <dcterms:modified xsi:type="dcterms:W3CDTF">2012-02-02T23:39:47Z</dcterms:modified>
  <cp:revision>3</cp:revision>
  <dc:subject/>
  <dc:title>   6TH Grade  Science Fair:  Researching with  NON-FICTION BOOKS </dc:title>
</cp:coreProperties>
</file>